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9AE3-FC6E-4C6B-867A-91127C698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A976-36F0-4776-8D1F-17C773534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4C3-A7D8-45DC-84C7-EC69E759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1F6-ADAF-4D65-9758-0CC18B9F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874-84FE-4E9E-B98D-2F1E7193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425-4278-436B-8374-BD801D0C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1BE-EE40-43AF-8067-42224B0A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12C-5A5C-4560-AA0B-D996F306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277-B902-42E6-84B9-EC0DAAAA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09E-B5B5-47B5-B59B-33D1DC7C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F2E-C8E9-4275-9231-2376AA43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B6A-7072-4C1C-913F-D8D43422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EA3-172C-4240-9AFC-67338F9F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6C2-B285-4601-A4CC-164A9128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2E0B-036E-4D42-84BC-2EBC11BFB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ilene  Mo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Jailene Mor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ilene Moren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447920"/>
            <a:ext cx="601992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828800"/>
            <a:ext cx="5029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05120" y="1523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6934320" y="1828800"/>
            <a:ext cx="76176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Jailene. Yo vivo en nueva york. Yo tengo catorce años. Yo tengo una hermana y un hermano. Yo soy alta y joven. Mi gusta leer y escrib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é tal amiga mi familia te extraña. ¿Cuándo viene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os están felices en la casa con mi hermano. Adió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. Mi familia está bien y ellos son calmad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42670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ambién los extraño mucho. Ustedes como están? Mi familia es intelig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8006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trabajando en mi proyecto y estoy con mis hermanos tenemos que estudiar. ¿y tu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666880" y="6019920"/>
            <a:ext cx="48006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voy a desayunar porque quiero comer. Nosotros estamos bien y somos una familia loc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 5 sceonds ago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1981080" y="1828800"/>
            <a:ext cx="434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¿cómo está tu familia y cómo es tu famili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¿Qué estás hacien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7:53Z</dcterms:modified>
  <cp:revision>115</cp:revision>
  <dc:subject/>
  <dc:title>Profile</dc:title>
</cp:coreProperties>
</file>